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25A-B293-4F85-A920-728E3D85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ABB-D6EC-4B6C-AA21-3A0481E8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5DD-02E2-4A8B-BD81-0914CB80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A16-2042-4873-9D34-F469A7C9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C189-EB47-455D-9B86-11F2E981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5A9A-1F4D-4F8B-93E4-CB6FCDE0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0D7B-A88B-4965-838D-24266735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697B-8FBC-471C-9B37-1EE96AD9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BBB1-F892-4A4B-9ACC-442FDB6E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5860-5527-4DC9-A929-499A1248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6564-D419-4DFD-AEEF-8FA01F7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19C-3AB0-4627-BD8F-22997466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FDB2-511B-47E4-9730-F6FCD9B1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2126-9F64-46FD-A9FE-37D2103F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7AA1-0709-4EC8-9B78-FEB8D6B6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5ACF-7598-450C-9CB1-CAB20AE0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1F6-9271-4040-9337-CCE8327D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CCF-6ECF-4BEC-8D7F-9056C52B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780-643E-4D88-805C-4274EF0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0D6-1BDD-47A7-9F09-3F21019E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350-0D63-438D-8A09-96D62466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56B-DDA1-4AC4-A6F5-B9BED83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6D2-3B2C-44D7-9FF8-C00DDA1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7BA-D104-4E7B-BDCD-76634320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BA84-A07F-4EB3-9C20-01E0DFCD26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6100-01EB-4BDE-894C-5F5A065AE5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Propósito # 88:</a:t>
            </a:r>
            <a:r>
              <a:rPr b="0" lang="es-ES_tradnl" sz="29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o seguimos el repaso de los Pronombres de Objeto Direct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pia y remplaza con el P.O.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Gloria bebe café todos los dí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festival celebra la herencia hispan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osotros comemos caramelos en Hallow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Las chicas saben bailar danzas caribeñ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 llamo ________ Clase 7 IL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La fecha es el 3 de junio del 2013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19320" y="3672000"/>
            <a:ext cx="7162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Gloria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bebe todos los dí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9320" y="4205160"/>
            <a:ext cx="7162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El festival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celeb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219320" y="4724280"/>
            <a:ext cx="71625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Nosotro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comemos en Hallowe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143000" y="5715000"/>
            <a:ext cx="7772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Las chicha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saben bailar.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92468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Llevas los esquís a Asp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Invitaron a los profesores al festiv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Preparaste una comida especi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omaron uds. bastantes gaseosa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en uds. muchas golosinas</a:t>
            </a:r>
            <a:r>
              <a:rPr b="0" i="1" lang="es-ES_tradnl" sz="1600" spc="-1" strike="noStrike">
                <a:solidFill>
                  <a:srgbClr val="000000"/>
                </a:solidFill>
                <a:latin typeface="Verdana"/>
              </a:rPr>
              <a:t> (junkfood)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durante los eventos especiales de la escuel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662840" y="83808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llevo a As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713240" y="191916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invitamos al festiv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657080" y="297180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prepar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756440" y="403848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tomam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795320" y="5805360"/>
            <a:ext cx="68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s 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comemos durante los ev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especiales de la escuel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9250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519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Verdana"/>
              </a:rPr>
              <a:t>A. 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lace with the P.O.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9120" indent="-51912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urelio lee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s novelas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9120" indent="-51912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peranza esta bebiendo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el té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9120" indent="-51912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Quieres cantar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 canc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9120" indent="-51912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cribo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 carta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9120" indent="-51912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la come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os guisantes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9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c000"/>
                </a:solidFill>
                <a:latin typeface="Verdana"/>
              </a:rPr>
              <a:t>B. 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swer using P.O.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9120" indent="-51912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Lee Ud.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os cuento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9120" indent="-51912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Quieres hacer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el trabajo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ahor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9120" indent="-51912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Están Uds. leyendo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el libro de texto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69800" y="-766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paso de la Tarea # 87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95280" y="160020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Aureli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s 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le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95280" y="206676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Esperanza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esta bebien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371600" y="259092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quieres cant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447920" y="3138480"/>
            <a:ext cx="7162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escrib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447920" y="3581280"/>
            <a:ext cx="746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Ella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co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371600" y="458136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 (no)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le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371600" y="502920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 (no)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quiero hacer aho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371600" y="557208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 (no)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estamos leyen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paso de la Tarea # 87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. Rewrite in the negative with the P.O.D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Raúl bebe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el café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alvador y Gloria quieren estudiar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 lección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toy leyendo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 la novela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cribimos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 carta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amilo necesita hacer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el trabajo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828800" y="251460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Raúl 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beb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828800" y="304812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alvador y Gloria 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quieren estudia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828800" y="404820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estoy leyen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828800" y="458136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escribim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828800" y="511488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Camilo 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necesita hac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Paso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step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the verb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(the conjugated on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k yourself: what/whom? Is taking the action of the ver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the Direct Obje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the Gender and Number of the D.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cide what P.O.D you will use to replace the Direct Obje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lace the D.O with the P.O.D. n place it BEFORE the ver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98520" y="30132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s practica de los Pronombres de Objeto Directo (P.O.D.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763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Luisa tiene una taza de agu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Luisa la tien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La profesora cerro la puerta muy tempran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La profesora la cerro muy tempran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1676520" y="1371600"/>
            <a:ext cx="99036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001240" y="12952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2590920" y="838080"/>
            <a:ext cx="350496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083640" y="990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.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057400" y="1371600"/>
            <a:ext cx="13716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1600200" y="1981080"/>
            <a:ext cx="60948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3048120" y="3429000"/>
            <a:ext cx="99036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337920" y="33526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4038480" y="2971800"/>
            <a:ext cx="1752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369400" y="2743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.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4"/>
          <p:cNvSpPr/>
          <p:nvPr/>
        </p:nvSpPr>
        <p:spPr>
          <a:xfrm flipH="1">
            <a:off x="3429000" y="3505320"/>
            <a:ext cx="9907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2971800" y="4038480"/>
            <a:ext cx="60948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NOMBRES DE OBJETO DIRECTO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(P.O.D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member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rect Objects TAKE the action of the ver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P.O.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are: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L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Masculine, singul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L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Feminine, singula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Lo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Masculine, plura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La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Feminine, plur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P.O.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REPLACE the Direct Ob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P.O.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is placed BEFORE the ver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py and Answer using the P.O.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 Dónde  compraste los palos de golf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Adonde usas el traje de bañ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uándo compraste tus zapatos de ten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uándo visitaste un balneari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Usaron crema bronceadora en el veran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434600" y="1905120"/>
            <a:ext cx="47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(Yo)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compré en </a:t>
            </a:r>
            <a:r>
              <a:rPr b="0" i="1" lang="es-ES_tradnl" sz="2800" spc="-1" strike="noStrike">
                <a:solidFill>
                  <a:srgbClr val="008000"/>
                </a:solidFill>
                <a:latin typeface="Verdana"/>
              </a:rPr>
              <a:t>Modell’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407240" y="2895480"/>
            <a:ext cx="58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(Yo)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uso en la piscina o la play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72600" y="388620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(Yo)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compré ay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4480" y="487692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(Yo)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visité en </a:t>
            </a:r>
            <a:r>
              <a:rPr b="0" i="1" lang="es-ES_tradnl" sz="2800" spc="-1" strike="noStrike">
                <a:solidFill>
                  <a:srgbClr val="008000"/>
                </a:solidFill>
                <a:latin typeface="Verdana"/>
              </a:rPr>
              <a:t>el veran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06400" y="5943600"/>
            <a:ext cx="74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Si (nosotros/ellos) </a:t>
            </a: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 usamos (usaron) en el ver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rea # 88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79200"/>
            <a:ext cx="7313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s practica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swer the question using the D.O.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Ex.  ¿Vas a pedir la ensalad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___________________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cinaste tú la sop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omaron Uds. un examen de ingl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prendiste tú la lección de ho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pras los periódicos latino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4114800" y="1523880"/>
            <a:ext cx="2286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2209680" y="2514600"/>
            <a:ext cx="7621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23520" y="251460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36012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.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415960" y="2057400"/>
            <a:ext cx="26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voy a pedi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2743200" y="1828800"/>
            <a:ext cx="13716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432440" y="32767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cocin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511640" y="4343400"/>
            <a:ext cx="32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tomam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1509120" y="527220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comprendí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713960" y="626256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Si/No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compr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20:13:31Z</dcterms:created>
  <dc:creator>Helen Zumaeta</dc:creator>
  <dc:description/>
  <dc:language>en-US</dc:language>
  <cp:lastModifiedBy>Helen Zumaeta</cp:lastModifiedBy>
  <cp:lastPrinted>2013-06-03T15:08:08Z</cp:lastPrinted>
  <dcterms:modified xsi:type="dcterms:W3CDTF">2013-06-03T17:37:37Z</dcterms:modified>
  <cp:revision>13</cp:revision>
  <dc:subject/>
  <dc:title>Me llamo ________ Clase 9IM La fecha es el 2 de octubre del 2012</dc:title>
</cp:coreProperties>
</file>